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DC4-57F2-4C51-8C3F-B3E5D79F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2D7-3552-4C82-A71D-4F1ED2CA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BA7BA-8A32-4309-A8AE-F760598E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3C309-0D30-4F7A-8DCD-5D0329C6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187FA-51D6-46D3-8525-5C867913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2ED20-EF0F-4E19-A596-5B8206B2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00047-3FA6-4A4E-9C51-9A85DFEC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07E59-F61E-4133-8196-F726058D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C2EB2-DB7A-42AA-B479-2593886B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8A68E-3E2A-4AC7-AED7-1D3C2243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A5539-AB52-4CA5-8F64-B99780DC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AB0D4-B942-4E20-A87E-F57DD37D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6CE-4458-4B78-A8FA-D0325548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3F9ED-7A0F-433D-B370-DB1A51CA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4A382-08DF-4E64-B3E1-45981567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A57CA-7995-4813-9E89-3765A063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706A0-FF4E-4A38-BD03-5EB6B0C4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B73B7-5E85-4B10-838D-D978FE8E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F264F-B3CE-480E-BD8B-42C6BCB9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6C2EE-E380-4459-A43A-1E725C09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2C26F-0C7E-4934-BF14-5C806E21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1A683-B40F-4D12-BF38-35340D13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DFED4-DA5C-4DAD-9C86-20FE4BFA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1C8-1E0A-4692-ACC7-D2FAEE8C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FF501-ECD6-41FD-984B-9C314AD9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8E6B6-6B9F-485A-978A-6E664930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94C3A-E332-44F0-ABAC-C942C696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F7F3E-5028-45F9-9EA0-D7DF2486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B37C0-8418-45C2-9F4E-3E532D7E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39A72-18C4-4D7B-AE5D-BE8F7688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EFF26-F69B-4BE0-8582-06BA243A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71DAC-4CF0-4991-92AF-5AF0A243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ED9C3-22A8-48B1-B273-0C6B3263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C3639-A177-4688-A9A1-7A900794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0E4E-568B-4949-A943-7B4A39D8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111F7-EFE7-4385-BEE4-72138F73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AF779-3093-4B71-84EA-C47AA1A2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37658-C849-48BE-8846-B304B615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3C42E-AA71-47A9-B6BC-8F912D91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16A2A-D945-4C08-B028-714C6D41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40D3E-2944-4050-B769-A8EABC04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87717-9F6B-4AFD-B52D-6F85CDC8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9F642-C38A-4DAB-9796-25CF7610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57D46-68E9-4524-A54A-A2329470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A866F-C5CD-4FFA-99C8-615B9E41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6383-0A86-4510-9671-C61A45E6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D5774-C9DB-49E3-9184-1DAD7C3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64291-9A5D-49E8-9207-0BB92C4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0CC09-B802-4C84-8570-A82C67B9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84CED-6899-48F2-8968-8F930083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88450-FE8D-4429-B960-6EB73C17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C594E-4E28-4B49-9537-5856E778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F1571-3C02-432D-B547-0B214096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17B6D-EA47-4679-9DF2-C2ABD04E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A1A92-D21E-40A7-8366-028D383A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DBC99-B853-45BB-B33D-7792712B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D350-078F-47C6-8CD3-D857C3F0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026E0-CEFE-4E19-94EB-A440AD31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3797F-6E26-418F-9B68-9DAE0431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79258-2D02-4CFF-BCC2-6C4B8B3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1FE37-302F-4E67-A844-62E4845B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9BC64-34EF-4619-9B67-30C1F3AB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C7C8C-3E44-4D36-94F6-B5B6999B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70361-A823-4E80-9772-3BCFAC4B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AED30-232B-4755-AA8C-90CF4E9A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9CCA1-3D52-4C90-A689-39F2B9CE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B22C3-67D1-4D24-B806-999649F7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7117-51D1-4C3C-BE14-471855F1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DE57F-7E30-4B80-9514-379AD335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7545B-BC69-4724-BAC3-139CB461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064BB-B922-4C68-9BDE-5151D00E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483B9-43A8-48EA-8856-F7AC5332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B515A-276D-42F0-BBB0-A3545133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775E9-5CC9-4566-8469-AD92EA1D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0F0A3-E7B9-4AD4-934C-92C5D807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C27BB-4608-46F6-8E6E-F14E640F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085F0-7717-47E6-B014-9C825562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C7CF9-4358-4395-BC36-D5EED40B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E0FF-C069-4727-A50A-61CB5659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47D69-4917-4065-914A-62D35FB2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2C837-AEA3-41BC-BEEA-EB775511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A1C2B9-96D6-4624-8352-7C5DA05F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DB656-0872-4AB6-86BE-B6EA9CE9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A02DE-C6A2-4904-831D-581E6182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B7FA3-93FB-4BD5-AD52-8A937013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12A3C-7F55-4B3F-BE37-1EECEB2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DBE45-F757-48C7-B115-E79A60C4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EB7C2-140D-474A-9A97-EF2A4ED4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6C5B3-AD38-495B-9775-F1B1B4F0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1C18-95EF-4D14-A9BD-375FA27B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CB5C6-C926-457D-869C-49900D35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D8E23-DCBE-436A-9152-31B7E3DD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ADEB1-F1C6-4EA3-823F-100CF1AF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B6212-91B2-4E06-B585-96D2A5A4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5B834-6840-4164-8D13-5A2ADA69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F74CF-9649-4BDA-BAFC-BE3EF95C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AC5BF2-C5B9-4B12-8931-5852391A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95B9C-BFD5-4ADC-8823-0F21CB76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95273-8C2E-4300-8F41-AD554386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14980-5B6D-472C-9EB7-7E4BB1E8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5782-6A56-4C38-BC3E-340D805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D6A8B-4373-4C33-BAD1-985EEA98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C77C0-6F73-47EB-BBD9-D1FA713C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5E05C-EFA4-4701-B853-CB25BE05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2E45E8-4933-4E90-8E9E-2E72258A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963F0-9806-4291-A5F7-004A4110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806E8-6E3E-47BD-9802-F08D6457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789C4-B9E3-4D05-8CAC-403029CF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FF3166-972A-4C93-8B8E-93E29473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60489-78A2-4E08-9B2D-C55FE7DE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53D391-3D9C-4902-9D40-E42ED06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46B-CAD8-447F-8882-CDC9BAF3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957F-53FB-4BF7-8D79-216BEB6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810FB8-A695-47E2-93E7-DE2F6A89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61EE7-D337-49AA-9730-BF61A1B6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EF96D-8BCF-408A-9BB0-B115BC4F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A85F70-4544-43C3-9AD4-665146A2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2DB91-896D-40E9-AA0E-51016EEC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18C54-CC71-42B0-8493-60AD9B35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22A78-569F-484B-B069-6C7AAC97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9B629-A3FE-4FEC-B346-7D33D483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F31C5E-DA74-4EC5-96D3-BEAE617D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09837E-BA3C-4124-8C3A-A653325B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2104-4B48-4ADC-84BC-CBB6F501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E06808-BC93-4719-9DE2-57D01EC8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3704DC-66C7-435D-9AE2-DABCA9B8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43DD51-4818-44B7-9F4F-E794E769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C9B11C-DB52-46BE-88A1-9B05F93B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5247A-4D1E-4534-A540-9E9EF631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4313F-B1EC-455D-92F0-9BA06796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C7AE7-B9CD-444D-ABC5-90C4A65F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69E90D-0E61-4F5D-9426-8EE21951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232CB-5FF5-41E1-B152-57CE91FB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6C44AB-7208-48B9-9C31-5B9F6F1F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E35D-A987-40ED-8B55-E6F1DA3B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5AE7D5-3E69-4EC3-B579-0AE19E04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5B33B1-1F30-445F-83C8-CFDA009A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95CF8-7F64-4F8F-A492-9C000452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D7A4FA-B311-4741-9C76-B7E0EA6E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E03CE-F0F1-4DF4-8EB8-9C0397B4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96D274-2B19-436F-98C3-F1815D6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34CEA8-801B-49B7-BA47-3384A274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34827A-D8B2-4A3A-B2BE-863D7CFB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A701FB-91F5-4A5E-BC2B-60DA92A6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D71472-B234-4DAD-BD9D-151EB582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FCDA-5644-4E45-901F-672505F6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B8DDA-E116-4292-B0D6-B4E8021A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C9F83-206D-413B-B137-900F864C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7DE10-4C7F-40B0-B1E1-BAA20DAA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DACF40-DAAC-4542-8803-3B268AF4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75191-F83E-490E-A600-B1DD15E6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40C97-25C7-405F-8DCC-36DC477B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8F2A49-EB75-448E-AEFC-F94F7BDA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09D7B8-ADDD-41C5-8C53-73F633A0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2A42EA-B449-489A-B009-D91A5F42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562142-B359-4028-8607-0BF4F8DD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5B24-E534-4BA6-8CF8-48EEC627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B4F89-B001-448D-A1D0-F7BFE2EA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D5747-64D6-4EC1-AC43-7ECC71E2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0583C-BEAD-4D65-8842-039EB26C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1AC272-169A-4D82-8501-ACC59BED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D48E4-BB65-44E7-BF8C-5B7AAA64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13BD21-FB8B-4718-9E13-E8C5BD47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91CACC-25BB-4912-8125-602B619C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FE58B8-DC59-4097-8772-588B2D0C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5F10F9-DE5D-49FA-AD6E-E63A2EA2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6DB28C-250A-4167-9B6A-EC8687A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CCA7-A8B1-4358-9CE6-E9D164FC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3EEB70-316E-484B-8602-F9AF32F6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7766EC-A28F-4762-8E4D-3BEA8E4B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3DD254-4540-4879-A1E2-44C9B2A0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6A22-FEAA-41C2-8B73-F823CFBD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92CF-C2B9-49F4-95F2-A2B2AB9D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F91C-68A9-4EC4-8593-B57C74B5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E71F-5288-4E0F-A6B3-19030CEA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C15-299D-4D5B-ABE1-4037FA1B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1EBA-ED8F-4E62-9159-E4B47E77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C363-99DD-4682-B794-835464CB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33EF-AE72-4827-8D64-CA6C160A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0450-232B-4564-AFE8-AF6B1185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C405-6CD7-4C3A-90C4-019EBC46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8600-E77D-4110-A8E9-5EB9C22E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2C24-9827-4350-A1A2-7AECCD0D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D9F7-E459-4F9F-B6DD-74336396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36F22-AD7A-4324-BB01-0CF8B3C9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D00D-33EC-4F3A-B961-38B6D6D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F56-8889-4575-9944-6E0350D1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E5D8E-4810-48CE-9968-8AC040D7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BA8FF-398B-4541-92F5-45A42056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CC72-9181-473F-8F33-CA6745C4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F4831-74D7-4034-A21F-A07F084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58FC-C217-406A-8BE4-585E12C2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6848-4B73-4466-8FAF-5A9CEFFB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16FE3-4301-4D5F-8854-ED957534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94D1-1C37-4CB2-88D5-6B4590D6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BB5D-D953-412F-AA38-CFD30030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4D4FC-4CC5-438F-A375-299CF395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9C8-36BC-4C77-B72D-4CC51F6F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CD07F-B79C-47CB-9DAA-EF52BFDE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C5B81-EEB5-4DD8-812A-BABE8E57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EED86-6918-49F3-AF06-4C3E955C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5977A-6EB6-447A-89BC-26F7882C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0D1EE-EEE1-4950-BDE2-41598EBC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0563-A9E2-4931-87FF-E4EEC6EA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36C4E-9F8A-4004-83C3-A564EB4E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4FF7E-39A9-4AEA-BD4B-CFC4CF6A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47B4F-192F-4723-A616-36AA1970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39592-B01E-429D-8922-A495281B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277-B3F8-46F4-9A6F-FCD48085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17E70-0406-4F4F-9570-B07BF5F2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083DD-D942-478C-B344-9EA2BCA9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7304D-C9A4-4BBE-A28A-64B26F8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944BF-8324-4029-8B69-27F2FA21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035B-5EF6-4BBA-952F-124AB6BC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8AC6F-1F5B-4F70-B02B-72A79ADD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BEA8C-0ED6-42FF-8F2E-62C66375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14C6B-FDC1-468B-90F2-C77DBA6D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FE462-5D75-430C-B042-F82E5523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767FA-6E84-4C84-94B6-C93F89AD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F60-5215-461A-8295-93DD8D68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ABC00-0C5E-47D1-9B4B-D4039F00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E78B8-A653-48F3-8456-8756FBAD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9CFF-84D6-4AA8-9FD3-D6B36C95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A2962-3A36-4FFF-9765-8470A321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065DC-5E0B-4F0A-88A6-24F6FB39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A2D56-A7B5-4CD7-87E8-23D03A7A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C1B92-00FF-4526-95F3-5E59CCB2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0DA44-2504-4203-A8A2-058E35C2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CC7FC-373A-4691-AB59-7828F08B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10EBA-1D44-47E9-8ADF-FC1656DF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440-69D0-4E98-AABB-BE7570D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FDF29-6259-43AA-9523-71E616CB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32CF9-15CA-4DD3-9AAE-1F10EA4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F037E-9DA0-471E-8455-FD59D885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A66A1-CC60-4229-AB0A-3E1A606D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D27D7-9B6F-4F2A-B2B3-A04DD6D1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F97A2-9B57-487D-9ED3-E12AFE11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F3CED-89C6-4E0A-8A4B-8B06364B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77F75-FBFE-4BE1-BD5F-D01D21D1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F8D01-77D4-4D59-B3B9-B192123E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E1FFC-7077-431F-908D-28E2312A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371-5B12-47A3-9FDA-6660BA2E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48C3D-73F3-4CDC-9A06-346515F1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91997-F296-4585-B1A1-721F3BB0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C2E79-AE5B-4D1A-9AD6-125B1499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B1C7F-4EC7-4D6A-BBF0-92AAB198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C302C-0E26-4C40-8443-2227375A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A28D8-C76B-4D9F-A353-3AFD3D24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0CF70-5D0D-494A-BC77-A7AC9947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9D159-6CD9-49D1-A89B-D7707035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0D681-741B-4A0B-8532-39C992EB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4B42B-FC38-4D62-8165-CABF5804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9D98-5968-45A8-96C9-B84BC9C43F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2176-8946-4EF6-9B84-3A6B7C7AF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1D8A-079E-43B4-B5E3-8C98EEEA15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3F57-8154-44BF-ACA8-9DE503D15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B7F7-DD72-4CB5-AA9C-29BB97721B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8D9-DFCA-42C1-B489-9F974E518C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B047-36AE-43D7-9B5F-674C60EC56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79FE-C129-4D6F-9F84-40CE7B863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A2E3-098E-420C-8473-0E1CBFE235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C1B7-A144-4041-9AE5-F877CD3AE4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64C7-6FA8-48DB-BA35-AB8E94332B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2E51-03C4-4B6F-8A6E-8339D3B7D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9B64-9456-44C0-B8F7-56B5B2F3AA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FA03-49EE-40E8-9BBC-EA57761F81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DCE2-55FD-4194-8FE0-7D046A1681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E0D1-B528-4179-82BA-763ABEF982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4D8B-5E87-4A7E-81D6-87B5216E6C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4238-E34E-462D-9A11-6D6BD63DAC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0CDF-5D23-41BA-900F-7BD3E66121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3C7D-C461-4AD0-8135-449A91B6CE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CE2C-CAA6-4997-A814-77E1619974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1875-05E2-4244-A46B-38E6482256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1FF4-9A96-4A80-B335-BF3299B56C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4917-D1FD-4ACD-998A-574D0DB81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11DC-39FA-4C3D-9E67-DBCDF220D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9730-C1B9-4E59-BE19-362E3C696D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6F95-2C43-4A53-ACE0-B5436AFE7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6913-2E9C-4FE7-8E03-7E39EC71D4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F6A3-6DA9-4CDA-A189-C6A36F0847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C2FC-6B21-4E28-843F-8C35C9AF69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CA80-96A0-4E03-B0E1-4A40A3FB51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AFAE-FAC0-480B-82FD-3F13D40998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3392-18F2-4BB0-AA78-7AB023E46B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4514-4CCA-4E61-B250-91A91145E9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551A-B8F2-4165-BE2E-B4B0FD680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71D1-A892-4C4E-A797-16E2D999C0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828E-A185-4A6A-95DA-69F687AA6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1F83-6A8A-49FD-A2AE-50111A7836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FCC-8563-457A-8AF9-4B258B10F3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07F1-9AAB-4623-858E-590A984C68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95400" y="3014640"/>
            <a:ext cx="89532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69633" descr=""/>
          <p:cNvPicPr/>
          <p:nvPr/>
        </p:nvPicPr>
        <p:blipFill>
          <a:blip r:embed="rId1"/>
          <a:stretch/>
        </p:blipFill>
        <p:spPr>
          <a:xfrm>
            <a:off x="1076400" y="1843200"/>
            <a:ext cx="6991200" cy="3171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900000" y="2463840"/>
            <a:ext cx="7344000" cy="476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7344000" cy="476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971640" y="3745080"/>
            <a:ext cx="7343640" cy="4759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971640" y="4437000"/>
            <a:ext cx="7343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8609" descr=""/>
          <p:cNvPicPr/>
          <p:nvPr/>
        </p:nvPicPr>
        <p:blipFill>
          <a:blip r:embed="rId1"/>
          <a:stretch/>
        </p:blipFill>
        <p:spPr>
          <a:xfrm>
            <a:off x="1042920" y="914400"/>
            <a:ext cx="6496200" cy="56102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1476360" y="2117880"/>
            <a:ext cx="5759640" cy="4759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1547640" y="2781360"/>
            <a:ext cx="5759640" cy="476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1042920" y="5373720"/>
            <a:ext cx="5759640" cy="476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1042920" y="6021360"/>
            <a:ext cx="5759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67585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6496200" cy="191448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67586" descr=""/>
          <p:cNvPicPr/>
          <p:nvPr/>
        </p:nvPicPr>
        <p:blipFill>
          <a:blip r:embed="rId2"/>
          <a:stretch/>
        </p:blipFill>
        <p:spPr>
          <a:xfrm>
            <a:off x="793800" y="3284640"/>
            <a:ext cx="4857840" cy="30286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755640" y="1643040"/>
            <a:ext cx="6264360" cy="476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4"/>
          <a:stretch/>
        </p:blipFill>
        <p:spPr>
          <a:xfrm>
            <a:off x="971640" y="2349360"/>
            <a:ext cx="6264360" cy="476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5"/>
          <a:stretch/>
        </p:blipFill>
        <p:spPr>
          <a:xfrm>
            <a:off x="611280" y="4292640"/>
            <a:ext cx="6264360" cy="8650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6264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66561" descr=""/>
          <p:cNvPicPr/>
          <p:nvPr/>
        </p:nvPicPr>
        <p:blipFill>
          <a:blip r:embed="rId1"/>
          <a:stretch/>
        </p:blipFill>
        <p:spPr>
          <a:xfrm>
            <a:off x="942840" y="1881360"/>
            <a:ext cx="7258320" cy="3095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1403280" y="3141720"/>
            <a:ext cx="6408720" cy="476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6408720" cy="476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1403280" y="4437000"/>
            <a:ext cx="6408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65537" descr=""/>
          <p:cNvPicPr/>
          <p:nvPr/>
        </p:nvPicPr>
        <p:blipFill>
          <a:blip r:embed="rId1"/>
          <a:stretch/>
        </p:blipFill>
        <p:spPr>
          <a:xfrm>
            <a:off x="1747800" y="2367000"/>
            <a:ext cx="5648400" cy="2124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1619280" y="2981160"/>
            <a:ext cx="5329080" cy="476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5329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64513" descr=""/>
          <p:cNvPicPr/>
          <p:nvPr/>
        </p:nvPicPr>
        <p:blipFill>
          <a:blip r:embed="rId1"/>
          <a:stretch/>
        </p:blipFill>
        <p:spPr>
          <a:xfrm>
            <a:off x="942840" y="1133640"/>
            <a:ext cx="7258320" cy="4590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826920" y="2463840"/>
            <a:ext cx="6769440" cy="11095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684360" y="3760920"/>
            <a:ext cx="67690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63489" descr=""/>
          <p:cNvPicPr/>
          <p:nvPr/>
        </p:nvPicPr>
        <p:blipFill>
          <a:blip r:embed="rId1"/>
          <a:stretch/>
        </p:blipFill>
        <p:spPr>
          <a:xfrm>
            <a:off x="257040" y="900000"/>
            <a:ext cx="8629920" cy="50580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684360" y="325584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8280360" cy="7920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324000" y="5027760"/>
            <a:ext cx="82803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62465" descr=""/>
          <p:cNvPicPr/>
          <p:nvPr/>
        </p:nvPicPr>
        <p:blipFill>
          <a:blip r:embed="rId1"/>
          <a:stretch/>
        </p:blipFill>
        <p:spPr>
          <a:xfrm>
            <a:off x="533520" y="1486080"/>
            <a:ext cx="8076960" cy="38862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468360" y="2736720"/>
            <a:ext cx="8207280" cy="476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8207280" cy="4759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8207280" cy="476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5"/>
          <a:stretch/>
        </p:blipFill>
        <p:spPr>
          <a:xfrm>
            <a:off x="395280" y="4667400"/>
            <a:ext cx="8207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61441" descr=""/>
          <p:cNvPicPr/>
          <p:nvPr/>
        </p:nvPicPr>
        <p:blipFill>
          <a:blip r:embed="rId1"/>
          <a:stretch/>
        </p:blipFill>
        <p:spPr>
          <a:xfrm>
            <a:off x="290520" y="1123920"/>
            <a:ext cx="8562960" cy="46101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2"/>
          <a:stretch/>
        </p:blipFill>
        <p:spPr>
          <a:xfrm>
            <a:off x="684360" y="2449440"/>
            <a:ext cx="5975280" cy="4762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611280" y="3083040"/>
            <a:ext cx="5975280" cy="4762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4"/>
          <a:stretch/>
        </p:blipFill>
        <p:spPr>
          <a:xfrm>
            <a:off x="611280" y="3730680"/>
            <a:ext cx="5975280" cy="8506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5"/>
          <a:stretch/>
        </p:blipFill>
        <p:spPr>
          <a:xfrm>
            <a:off x="324000" y="4797360"/>
            <a:ext cx="84247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66760" y="733320"/>
            <a:ext cx="8610480" cy="5791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7956720" y="134136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8028000" y="3357720"/>
            <a:ext cx="57636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59410" descr=""/>
          <p:cNvPicPr/>
          <p:nvPr/>
        </p:nvPicPr>
        <p:blipFill>
          <a:blip r:embed="rId1"/>
          <a:stretch/>
        </p:blipFill>
        <p:spPr>
          <a:xfrm>
            <a:off x="243000" y="1533600"/>
            <a:ext cx="8658000" cy="37908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7885080" y="155736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8028000" y="414972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8373" descr=""/>
          <p:cNvPicPr/>
          <p:nvPr/>
        </p:nvPicPr>
        <p:blipFill>
          <a:blip r:embed="rId1"/>
          <a:stretch/>
        </p:blipFill>
        <p:spPr>
          <a:xfrm>
            <a:off x="243000" y="923760"/>
            <a:ext cx="8658000" cy="5010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8028000" y="155736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8028000" y="414972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7352" descr=""/>
          <p:cNvPicPr/>
          <p:nvPr/>
        </p:nvPicPr>
        <p:blipFill>
          <a:blip r:embed="rId1"/>
          <a:stretch/>
        </p:blipFill>
        <p:spPr>
          <a:xfrm>
            <a:off x="237960" y="866880"/>
            <a:ext cx="8668080" cy="51242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8028000" y="2795760"/>
            <a:ext cx="576360" cy="475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4427640" y="5416560"/>
            <a:ext cx="1439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6324" descr=""/>
          <p:cNvPicPr/>
          <p:nvPr/>
        </p:nvPicPr>
        <p:blipFill>
          <a:blip r:embed="rId1"/>
          <a:stretch/>
        </p:blipFill>
        <p:spPr>
          <a:xfrm>
            <a:off x="371520" y="1800360"/>
            <a:ext cx="8400960" cy="3257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236000" y="2521080"/>
            <a:ext cx="1152360" cy="476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3348000" y="3817800"/>
            <a:ext cx="1655640" cy="476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3348000" y="4465800"/>
            <a:ext cx="115272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5300" descr=""/>
          <p:cNvPicPr/>
          <p:nvPr/>
        </p:nvPicPr>
        <p:blipFill>
          <a:blip r:embed="rId1"/>
          <a:stretch/>
        </p:blipFill>
        <p:spPr>
          <a:xfrm>
            <a:off x="257040" y="733320"/>
            <a:ext cx="8629920" cy="53913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2556000" y="2593800"/>
            <a:ext cx="1295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4276" descr=""/>
          <p:cNvPicPr/>
          <p:nvPr/>
        </p:nvPicPr>
        <p:blipFill>
          <a:blip r:embed="rId1"/>
          <a:stretch/>
        </p:blipFill>
        <p:spPr>
          <a:xfrm>
            <a:off x="252360" y="1204920"/>
            <a:ext cx="8639280" cy="44481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7093080" y="1239840"/>
            <a:ext cx="863640" cy="476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900000" y="1873080"/>
            <a:ext cx="863640" cy="476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611280" y="447984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611280" y="5157720"/>
            <a:ext cx="5400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2231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6553080" cy="176220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52232" descr=""/>
          <p:cNvPicPr/>
          <p:nvPr/>
        </p:nvPicPr>
        <p:blipFill>
          <a:blip r:embed="rId2"/>
          <a:stretch/>
        </p:blipFill>
        <p:spPr>
          <a:xfrm>
            <a:off x="324000" y="2997360"/>
            <a:ext cx="8096040" cy="37242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79280" y="1600200"/>
            <a:ext cx="6913800" cy="476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468360" y="2276640"/>
            <a:ext cx="6913440" cy="4759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250920" y="4307040"/>
            <a:ext cx="8353440" cy="475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324000" y="488304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468360" y="554508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8"/>
          <a:stretch/>
        </p:blipFill>
        <p:spPr>
          <a:xfrm>
            <a:off x="468360" y="6194520"/>
            <a:ext cx="8353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19:4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